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8EEB-ABDD-4E0F-9FDB-5A12D666C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0CB1-B8CA-4E33-A8E4-743DA370F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612C-4C67-456E-89F7-C9C471CE79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862B-1558-4E02-9EBB-90CCD58011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9B16-DB93-49CC-8CA4-23ACB1C21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3745-C5CC-4D6F-ABBA-0813A1033B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1B09-0BF3-4101-A376-7A257B3AC2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E950-7646-45DC-A897-6CAA7F1F62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C213-2603-46B1-97E6-E444E30D25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AA91-E602-4CEE-ACC5-5EFCA85838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F76C-877C-4516-8495-72A2187449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1BBC-9079-489C-9E48-7332CB29B0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A680-E026-409D-9207-8257B8F3F2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231E-6893-42F3-9774-96C29153CF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DEBB-BE71-43AA-B03D-48D17D1AFCB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ati Distric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–for–Development (R4D) Plat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3068280"/>
            <a:ext cx="51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Jukwaa la Utafiti kwa Maendeleo Wilaya ya Babati (JUM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" y="4114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, Mangoch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14-16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 Hillb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3" descr=""/>
          <p:cNvPicPr/>
          <p:nvPr/>
        </p:nvPicPr>
        <p:blipFill>
          <a:blip r:embed="rId1"/>
          <a:stretch/>
        </p:blipFill>
        <p:spPr>
          <a:xfrm>
            <a:off x="1474920" y="1487520"/>
            <a:ext cx="6913440" cy="4821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abling system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Annual General Meeting, Oct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onstitution, leadership, research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nagement retreat, Ja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ork plan 2015-16, communic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Progress in 2014-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RELIABLE MARKET FOR AGRICULTURAL PRODUCTS FROM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ENABLING ENVIRONMENT FOR EFFICIENT PRODUCTION OF AGRICULTURAL PRODUCTS (LIVESTOCK AND CROP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BUILDING OF JUM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 PLATFORM  CAPAC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ACT YOUTH TO FARMING AS A BUSINESS THROUGH PROVISION OF FEASIBLE INCEN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trainers in farming as a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ext + farmers in PHM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formation on farmer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value addition in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velop market strategies for prize sta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proper land use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044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of ext on GAP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apacity building on QDS maize production (3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nsitization on artificial insemination (6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ssroot level platforms in 6 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munication and promotion of JUMBA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nual meetings for evaluation, reflection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for 20 youth in chicken and vegetable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links between youth and credit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gree of formalization (bureaucra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trategic in character – not yet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ion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uy-in from NGOs and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nnect to existing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o to ward/villag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ind balance with research coordination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onitoring and  evaluat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Reflection and 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Per Hillbur</cp:lastModifiedBy>
  <cp:lastPrinted>2011-10-06T11:45:23Z</cp:lastPrinted>
  <dcterms:modified xsi:type="dcterms:W3CDTF">2015-07-14T05:38:04Z</dcterms:modified>
  <cp:revision>37</cp:revision>
  <dc:subject/>
  <dc:title>Slide 1</dc:title>
</cp:coreProperties>
</file>